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C0D-0B5E-466F-8B59-25EC058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3E1-39F8-4284-BF75-5462D994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E11-F2DC-4439-BFA5-D3679115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FDE-45EE-4266-AD4F-7B02CE67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760-2E39-48C2-9FBD-30C4563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41-21E3-422C-BBD7-08C70D4F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A29-FE5C-4BC9-B7FE-9B792F42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E67-06D1-42FF-90D6-12E885D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382-5864-42FF-96F9-E5D9DFA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AE8-3EA6-4785-B43D-C290130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962-6D45-49D4-9AAA-90D4D04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A80-2F1C-4A3B-9F09-7AF7D89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3DA-79C4-48FD-BE57-2806FC6C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19400" y="1119240"/>
            <a:ext cx="47052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4790400">
            <a:off x="2246040" y="2477880"/>
            <a:ext cx="745920" cy="97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609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s for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724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ff00"/>
                </a:solidFill>
                <a:latin typeface="Arial"/>
              </a:rPr>
              <a:t>By Corey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5382800">
            <a:off x="2133360" y="3504600"/>
            <a:ext cx="1128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476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i, I will be talking to you about the Crusty Demons which you all properly now about but if not, the Crusty Demons are a group of daredevils that perform tricks on motorbikes and anything else they dare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se are the questions that I wanted to know; the rider that has been riding the longest, who is the most well known rider and what is the most famous and hardest trick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 most famous trick is a Double Back Flip, but only 3 people can land it. The hardest trick to do is a Cliff Hanger Back Flip, it is the hardest trick to do because you hang from the handlebars by your feet while doing a back f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ravis Pistrana is the most will know rider because he has been riding the long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388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re is a New Zealander in the Crust Demons and he is the 3rd person to land a double Back Flip (GO LEVI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rusty Demons have set some world records, like longest wheelie on a BMX bike (255 feet) set by Trevor Porter, longest jump on a 250cc motorbike (255.4 feet) set by Larry Linkogle, longest ramp to ramp back flip (1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eet 7 inches) by Cam Sinclair and the one that shows the Crusty Demons are daredevils, the most swords swallowed  at once (17) by Chayen Hultgren, also known as the “Space Cowboy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have now come to the end of my speech and some of you are properly thinking a double back flip is easy, but  it’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36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3143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4029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105520" y="403848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352680" y="2362320"/>
            <a:ext cx="175284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05520" y="2362320"/>
            <a:ext cx="1447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4419720"/>
            <a:ext cx="30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0"/>
            <a:ext cx="6476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99"/>
                </a:solidFill>
                <a:latin typeface="Arial"/>
              </a:rPr>
              <a:t>These are the questions that I wante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80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The rider that has been riding the longest?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73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Arial"/>
              </a:rPr>
              <a:t>who is the most well known ri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" y="361224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what is the most famous and hardest trick to do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19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3173400"/>
            <a:ext cx="4724280" cy="368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90920" y="2819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3300"/>
                </a:solidFill>
                <a:latin typeface="Arial"/>
              </a:rPr>
              <a:t>Double Back F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e75c09fa.jpg bilko image by RYNOSTONER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ff00"/>
                </a:solidFill>
                <a:latin typeface="Arial"/>
              </a:rPr>
              <a:t>Cliff Hanger Back F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511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35049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350532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50532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7530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19720" y="3657600"/>
            <a:ext cx="4724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6956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H</cp:lastModifiedBy>
  <dcterms:modified xsi:type="dcterms:W3CDTF">2009-12-08T22:48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